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466D-51E6-4441-ACAF-5A0442D23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93E5-C0BB-4FE8-8EC6-5B6FB8A6B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6C40-1DF3-4C8B-981E-98FA0AD3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462D-D570-4FFE-9F1F-98384835B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950-D1A9-4AE1-8BD8-D79D6AD3C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4EF8-01D9-4EAD-AACE-5B58258A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C47-76F8-451E-BEBE-80EBB94C9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5086-B421-4289-9B11-8F744AFB8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781A-3702-4460-8065-1F865F974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809D4-8D2E-47F7-BEAA-BC08F2D0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8A34-027C-42C1-97CF-EC1DEE6A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9743-13CF-4779-8AE5-669322F6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A7249-34F8-4157-B357-B3ACB7B57E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am Mickiewicz „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Środki stylistycz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600200"/>
          <a:ext cx="8229600" cy="3514680"/>
        </p:xfrm>
        <a:graphic>
          <a:graphicData uri="http://schemas.openxmlformats.org/drawingml/2006/table">
            <a:tbl>
              <a:tblPr/>
              <a:tblGrid>
                <a:gridCol w="2743200"/>
                <a:gridCol w="2595600"/>
                <a:gridCol w="28908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nikła jak lekki powiew wietrzy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nagłe i niespodziewane zniknięcie dziewczyn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433224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5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…) błędny krok nie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/ 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ek i zrezygnowanie chłopca widoczne w sposobie jego poruszania się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635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1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 „Błędnymi strzela oczyma;”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smutne spojrzenie bohater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457200" y="1600200"/>
          <a:ext cx="8229600" cy="34434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8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ziewicza piękność wytryska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 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, młodość, zwinność i delikatność nimf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57200" y="1600200"/>
          <a:ext cx="8229600" cy="36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ko mgła lekka, tak lekkie stroj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wiały postać niebieską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dziewczyna ma tak delikatną suknię, jakby była bez odzieni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Świtezianka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457200" y="1600200"/>
          <a:ext cx="8229600" cy="3833640"/>
        </p:xfrm>
        <a:graphic>
          <a:graphicData uri="http://schemas.openxmlformats.org/drawingml/2006/table">
            <a:tbl>
              <a:tblPr/>
              <a:tblGrid>
                <a:gridCol w="3322800"/>
                <a:gridCol w="2163600"/>
                <a:gridCol w="2743200"/>
              </a:tblGrid>
              <a:tr h="118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łodzieniec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 pięknych licach topi oczy,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zakochany wzrok strzelca, w którym widać zachwyt urodą kobiety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0830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tami usta r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żane gon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żywie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piękno pierwszego pocałunku i kolor ust ukochane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Gratulacje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Świetna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	</a:t>
            </a:r>
            <a:r>
              <a:rPr b="0" lang="en-US" sz="5400" spc="-1" strike="noStrike">
                <a:solidFill>
                  <a:srgbClr val="cc00cc"/>
                </a:solidFill>
                <a:latin typeface="Arial"/>
              </a:rPr>
              <a:t>robota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Na dobry początek </a:t>
            </a:r>
            <a:r>
              <a:rPr b="0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MA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P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NÓWAON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457200" y="1600200"/>
          <a:ext cx="8229600" cy="32986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łopiec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ękn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mło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kreśla urodę i wiek młodzieńca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600200"/>
          <a:ext cx="8229600" cy="362916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96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mokry jaskier wschodzi na bagnie”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 jak niespodziewanie dziewczyna pojawia się na spotkaniach ze strzelcem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600200"/>
          <a:ext cx="8229600" cy="3586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ziewczyna) „Jak ognik nocny przepada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równan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opisuje nagły i tajemniczy sposób znikania kochanki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57200" y="1600200"/>
          <a:ext cx="8229600" cy="34783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5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gęstej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eszczyny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podkreśla obfitość roślinności, uplastycznia opis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916520"/>
        </p:xfrm>
        <a:graphic>
          <a:graphicData uri="http://schemas.openxmlformats.org/drawingml/2006/table">
            <a:tbl>
              <a:tblPr/>
              <a:tblGrid>
                <a:gridCol w="2743200"/>
                <a:gridCol w="2451240"/>
                <a:gridCol w="3035160"/>
              </a:tblGrid>
              <a:tr h="132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 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hardy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młokosie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jawnia stosunek dziewczyny do propozycji młodzieńca i zdradza  jej nieufność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57200" y="1600200"/>
          <a:ext cx="8229600" cy="386568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21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łowicze wdzięki w mężczyzny głosie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w sercu lisie zamiary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zenośnia/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for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ukazuje, że za pięknymi słowami mężczyzny może się kryć podstęp;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Świtezianka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1600200"/>
          <a:ext cx="8229600" cy="39513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20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at z wiers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zwa środka stylistyczne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kc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„</a:t>
                      </a: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iekielne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potęgi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pit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podkreśla spos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b zaklinania się młodzieńca na wszystko;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9-15T16:19:55Z</dcterms:created>
  <dc:creator>Dorota</dc:creator>
  <dc:description/>
  <dc:language>en-US</dc:language>
  <cp:lastModifiedBy>Dorota</cp:lastModifiedBy>
  <dcterms:modified xsi:type="dcterms:W3CDTF">2021-09-18T12:47:37Z</dcterms:modified>
  <cp:revision>5</cp:revision>
  <dc:subject/>
  <dc:title>Adam Mickiewicz „Świtezianka”</dc:title>
</cp:coreProperties>
</file>